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28240" y="428760"/>
            <a:ext cx="3986280" cy="299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4C93-81AA-40FA-9C35-119A72D725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27160" y="428760"/>
            <a:ext cx="3987720" cy="2990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9844-66E9-4E8A-A8BF-DD2EB752A2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27160" y="428760"/>
            <a:ext cx="3987720" cy="2990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Relative’ view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– what factors raise the ris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Even with focus on families thru’ tax credits, hhlds with children have signif higher poverty risks (even after controlling for age, occupation, etc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ccupation important – PAY RA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ACK OF EMPLOYMENT - low work intensity and poor histo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Absolute’ view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– who are the working poor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any work full-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any in households with high work intens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B144-0EF4-446D-B634-2A03CE73B3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27160" y="428760"/>
            <a:ext cx="3987720" cy="2990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0746-30AD-412D-AF3E-A11FFB26E6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C9C2-3250-4C85-889C-C10CE81B8B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27160" y="428760"/>
            <a:ext cx="3987720" cy="2990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893F-636C-4F9F-8499-B8BE6B6FB4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BBFA-44FB-4B01-BADE-B4F1E00273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5418-0D8D-42A3-867E-6DCB5DF177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BD54-33CC-4282-ABE4-971DE6003E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27160" y="428760"/>
            <a:ext cx="3987720" cy="2990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1B3F-87F7-43FA-95D5-445559B9A9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1B75-161D-4495-A7B5-AC0A5BA8E7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28600" y="428760"/>
            <a:ext cx="3986280" cy="2990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01760" y="3477960"/>
            <a:ext cx="592272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3BDA-0995-4AF7-92B4-5C78B8C9BE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903-5417-4A0E-B50A-093E5E59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53C-99A7-4FA5-8D8B-B6467D4D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565-9593-4EF2-8C11-0779A576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B0E-2579-42BF-A8D6-1D3E8A03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A469-038B-4923-A52B-88E2FE8E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3998-2F35-4079-864F-1BC9B855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01F9-C0BE-46FD-A2F9-265BABA5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2A5E-9124-498E-B096-D15CF85F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61F5-BCD4-43A4-AD4D-E06C6CED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1C8E-2D64-4533-B552-372A910E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BF7B-5246-4D0B-8497-AA44C1AA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529-3F10-41E8-82AC-D23ACFE8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7F92-AFBC-47C9-BC0C-44B7DD33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76F3-A773-41A4-A200-01C06B3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853D-A76C-440D-9FED-A575DA2B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B69D-21A1-4AE9-8310-33B3B148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160A-2333-4B58-BD54-DC28DB03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3DE-A0A6-44F3-B042-3CDF60BE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BAD-FF09-4E36-A2C4-E9103C38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FF9-D800-47FA-B93D-60B3A4E1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B31-1568-4FB2-8938-B8068857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1BC-96EA-462B-A9D2-D11635CF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720-EA5F-43A6-92D1-DE723C36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101-D72B-4DD0-97E6-FA0FF2B4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48FC-D502-4723-B006-5D9BA0C81B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\\ads\filestore\SPOL\Staff\Poverty &amp; Social Exclusion\Communications - PRels, slides, articles\Logos\PSE logo(s)\PSE Logo.png"/>
          <p:cNvPicPr/>
          <p:nvPr/>
        </p:nvPicPr>
        <p:blipFill>
          <a:blip r:embed="rId2"/>
          <a:stretch/>
        </p:blipFill>
        <p:spPr>
          <a:xfrm>
            <a:off x="179280" y="5950080"/>
            <a:ext cx="1800360" cy="72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9DFE-3334-45F6-A5F3-27F6A2B025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\\ads\filestore\SPOL\Staff\Poverty &amp; Social Exclusion\Communications - PRels, slides, articles\Logos\PSE logo(s)\PSE Logo.png"/>
          <p:cNvPicPr/>
          <p:nvPr/>
        </p:nvPicPr>
        <p:blipFill>
          <a:blip r:embed="rId1"/>
          <a:stretch/>
        </p:blipFill>
        <p:spPr>
          <a:xfrm>
            <a:off x="324000" y="5605560"/>
            <a:ext cx="1800000" cy="72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\\ads\filestore\SPOL\Staff\Poverty &amp; Social Exclusion\Communications - PRels, slides, articles\Logos\ESRC_logos_tcm8-5099\JPG RGB Small with Border.jpg"/>
          <p:cNvPicPr/>
          <p:nvPr/>
        </p:nvPicPr>
        <p:blipFill>
          <a:blip r:embed="rId2"/>
          <a:stretch/>
        </p:blipFill>
        <p:spPr>
          <a:xfrm>
            <a:off x="7596360" y="560556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Nick Bail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University of Glasg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mployment, poverty and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Poverty by hhld work intensity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– Scot vs RoU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4427640" y="1557360"/>
            <a:ext cx="4392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hart 7" descr=""/>
          <p:cNvPicPr/>
          <p:nvPr/>
        </p:nvPicPr>
        <p:blipFill>
          <a:blip r:embed="rId1"/>
          <a:stretch/>
        </p:blipFill>
        <p:spPr>
          <a:xfrm>
            <a:off x="0" y="1914480"/>
            <a:ext cx="9144000" cy="49435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Employment and pov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verty risks by employment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067280" y="1916280"/>
            <a:ext cx="381780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Employment and pov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tors raising risks of in-work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hld with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hildre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ingl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ers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mi-/routine and lower supervisory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ccupati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x 2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ork intensit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ss than 0.4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x 2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2+ months unem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 in last five yea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x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T for large minority of people, problem is NOT lack of access to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6% of working age adults who are poor are in work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[Scot = 45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9% of working poor work 40+ hours a week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[Scot = 31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5% of working poor in hhlds with Work Intensity &gt; 0.8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[Scot = 41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mployment, Health &amp; Well-be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s of employment on health &amp; W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tus, identity, routine,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terial or economic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Quality of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ysical demands, haz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sychosocial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wo-way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mployment, Health &amp; Well-be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Employment quality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– sum of five scores (12 v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tisfaction/sense of valu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satisfaction, interesting, usefu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 stres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NOT stressful, NOT tight deadlin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rol/flexibility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task control, control start/finish, time-of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od physical condition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temperature, smoke/dust/noise, NOT physically demand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urity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job secu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hart 13" descr=""/>
          <p:cNvPicPr/>
          <p:nvPr/>
        </p:nvPicPr>
        <p:blipFill>
          <a:blip r:embed="rId1"/>
          <a:stretch/>
        </p:blipFill>
        <p:spPr>
          <a:xfrm>
            <a:off x="-6480" y="1335240"/>
            <a:ext cx="9156960" cy="5529240"/>
          </a:xfrm>
          <a:prstGeom prst="rect">
            <a:avLst/>
          </a:prstGeom>
          <a:ln w="0">
            <a:noFill/>
          </a:ln>
        </p:spPr>
      </p:pic>
      <p:sp>
        <p:nvSpPr>
          <p:cNvPr id="173" name="Rounded Rectangle 10"/>
          <p:cNvSpPr/>
          <p:nvPr/>
        </p:nvSpPr>
        <p:spPr>
          <a:xfrm>
            <a:off x="1692360" y="4941720"/>
            <a:ext cx="792000" cy="7909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ounded Rectangle 11"/>
          <p:cNvSpPr/>
          <p:nvPr/>
        </p:nvSpPr>
        <p:spPr>
          <a:xfrm>
            <a:off x="3851280" y="4149720"/>
            <a:ext cx="792000" cy="115092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150920"/>
              <a:gd name="textAreaBottom" fmla="*/ 1112400 h 1150920"/>
            </a:gdLst>
            <a:ahLst/>
            <a:rect l="textAreaLeft" t="textAreaTop" r="textAreaRight" b="textAreaBottom"/>
            <a:pathLst>
              <a:path w="21600" h="31384">
                <a:moveTo>
                  <a:pt x="3600" y="0"/>
                </a:moveTo>
                <a:arcTo wR="3600" hR="3600" stAng="16200000" swAng="-5400000"/>
                <a:lnTo>
                  <a:pt x="0" y="27784"/>
                </a:lnTo>
                <a:arcTo wR="3600" hR="3600" stAng="10800000" swAng="-5400000"/>
                <a:lnTo>
                  <a:pt x="18000" y="31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12"/>
          <p:cNvSpPr/>
          <p:nvPr/>
        </p:nvSpPr>
        <p:spPr>
          <a:xfrm>
            <a:off x="6012000" y="3213000"/>
            <a:ext cx="792000" cy="93672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936720"/>
              <a:gd name="textAreaBottom" fmla="*/ 898200 h 936720"/>
            </a:gdLst>
            <a:ahLst/>
            <a:rect l="textAreaLeft" t="textAreaTop" r="textAreaRight" b="textAreaBottom"/>
            <a:pathLst>
              <a:path w="21600" h="25545">
                <a:moveTo>
                  <a:pt x="3600" y="0"/>
                </a:moveTo>
                <a:arcTo wR="3600" hR="3600" stAng="16200000" swAng="-5400000"/>
                <a:lnTo>
                  <a:pt x="0" y="21945"/>
                </a:lnTo>
                <a:arcTo wR="3600" hR="3600" stAng="10800000" swAng="-5400000"/>
                <a:lnTo>
                  <a:pt x="18000" y="25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3132000" y="1268280"/>
            <a:ext cx="403236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15"/>
          <p:cNvSpPr/>
          <p:nvPr/>
        </p:nvSpPr>
        <p:spPr>
          <a:xfrm>
            <a:off x="7308720" y="3933720"/>
            <a:ext cx="1835280" cy="1079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mployment, Health &amp; Well-be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220840" y="1413000"/>
            <a:ext cx="407988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7450200" y="4729320"/>
            <a:ext cx="165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3. Employment, Health &amp; Well-be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1557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ople i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owest quintile for job quality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ve health/well-being no better than unemploy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fter controlling for gender, age, physical health, income, deprivation, occupation,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evidence of causal link but consistent with other work which shows such a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or quality work, like low paid work, does not lead to social i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otland has similar proportion of jobs of “low quality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1% c.w. 23% for RoUK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[+/-  4% and 2% respectively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9"/>
          <p:cNvSpPr/>
          <p:nvPr/>
        </p:nvSpPr>
        <p:spPr>
          <a:xfrm>
            <a:off x="243000" y="4680000"/>
            <a:ext cx="4392360" cy="0"/>
          </a:xfrm>
          <a:prstGeom prst="line">
            <a:avLst/>
          </a:prstGeom>
          <a:ln w="316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15960" y="1052640"/>
            <a:ext cx="716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(17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5960" y="4749840"/>
            <a:ext cx="1147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(59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615960" y="5167440"/>
            <a:ext cx="1219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(48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Work+poor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3"/>
          <p:cNvSpPr/>
          <p:nvPr/>
        </p:nvSpPr>
        <p:spPr>
          <a:xfrm>
            <a:off x="900000" y="114480"/>
            <a:ext cx="7272360" cy="6308640"/>
          </a:xfrm>
          <a:prstGeom prst="ellipse">
            <a:avLst/>
          </a:prstGeom>
          <a:solidFill>
            <a:srgbClr val="ecf1f8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Oval 4"/>
          <p:cNvGrpSpPr/>
          <p:nvPr/>
        </p:nvGrpSpPr>
        <p:grpSpPr>
          <a:xfrm>
            <a:off x="3029040" y="1816200"/>
            <a:ext cx="3011400" cy="2792160"/>
            <a:chOff x="3029040" y="1816200"/>
            <a:chExt cx="3011400" cy="2792160"/>
          </a:xfrm>
        </p:grpSpPr>
        <p:pic>
          <p:nvPicPr>
            <p:cNvPr id="96" name="Oval 4" descr=""/>
            <p:cNvPicPr/>
            <p:nvPr/>
          </p:nvPicPr>
          <p:blipFill>
            <a:blip r:embed="rId1"/>
            <a:stretch/>
          </p:blipFill>
          <p:spPr>
            <a:xfrm>
              <a:off x="3029040" y="1816200"/>
              <a:ext cx="301140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492360" y="2246400"/>
              <a:ext cx="2087640" cy="19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Rectangle 6" descr=""/>
          <p:cNvPicPr/>
          <p:nvPr/>
        </p:nvPicPr>
        <p:blipFill>
          <a:blip r:embed="rId2"/>
          <a:stretch/>
        </p:blipFill>
        <p:spPr>
          <a:xfrm>
            <a:off x="2084400" y="781200"/>
            <a:ext cx="2494080" cy="74916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7" descr=""/>
          <p:cNvPicPr/>
          <p:nvPr/>
        </p:nvPicPr>
        <p:blipFill>
          <a:blip r:embed="rId3"/>
          <a:stretch/>
        </p:blipFill>
        <p:spPr>
          <a:xfrm>
            <a:off x="4627440" y="731880"/>
            <a:ext cx="1906560" cy="74916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8" descr=""/>
          <p:cNvPicPr/>
          <p:nvPr/>
        </p:nvPicPr>
        <p:blipFill>
          <a:blip r:embed="rId4"/>
          <a:stretch/>
        </p:blipFill>
        <p:spPr>
          <a:xfrm>
            <a:off x="3529080" y="4456080"/>
            <a:ext cx="2305080" cy="74916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10"/>
          <p:cNvSpPr/>
          <p:nvPr/>
        </p:nvSpPr>
        <p:spPr>
          <a:xfrm>
            <a:off x="4535640" y="114480"/>
            <a:ext cx="0" cy="17301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13"/>
          <p:cNvSpPr/>
          <p:nvPr/>
        </p:nvSpPr>
        <p:spPr>
          <a:xfrm>
            <a:off x="5867280" y="3860640"/>
            <a:ext cx="1800360" cy="100836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6"/>
          <p:cNvSpPr/>
          <p:nvPr/>
        </p:nvSpPr>
        <p:spPr>
          <a:xfrm flipH="1">
            <a:off x="1619280" y="3933000"/>
            <a:ext cx="1657440" cy="1150920"/>
          </a:xfrm>
          <a:prstGeom prst="line">
            <a:avLst/>
          </a:prstGeom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24" descr=""/>
          <p:cNvPicPr/>
          <p:nvPr/>
        </p:nvPicPr>
        <p:blipFill>
          <a:blip r:embed="rId5"/>
          <a:stretch/>
        </p:blipFill>
        <p:spPr>
          <a:xfrm>
            <a:off x="1474920" y="1457280"/>
            <a:ext cx="2232000" cy="76824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25" descr=""/>
          <p:cNvPicPr/>
          <p:nvPr/>
        </p:nvPicPr>
        <p:blipFill>
          <a:blip r:embed="rId6"/>
          <a:stretch/>
        </p:blipFill>
        <p:spPr>
          <a:xfrm>
            <a:off x="1189080" y="2395440"/>
            <a:ext cx="1944720" cy="7686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26" descr=""/>
          <p:cNvPicPr/>
          <p:nvPr/>
        </p:nvPicPr>
        <p:blipFill>
          <a:blip r:embed="rId7"/>
          <a:stretch/>
        </p:blipFill>
        <p:spPr>
          <a:xfrm>
            <a:off x="1042920" y="3475080"/>
            <a:ext cx="2230560" cy="76824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27" descr=""/>
          <p:cNvPicPr/>
          <p:nvPr/>
        </p:nvPicPr>
        <p:blipFill>
          <a:blip r:embed="rId8"/>
          <a:stretch/>
        </p:blipFill>
        <p:spPr>
          <a:xfrm>
            <a:off x="4505400" y="1176480"/>
            <a:ext cx="2413080" cy="76824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28" descr=""/>
          <p:cNvPicPr/>
          <p:nvPr/>
        </p:nvPicPr>
        <p:blipFill>
          <a:blip r:embed="rId9"/>
          <a:stretch/>
        </p:blipFill>
        <p:spPr>
          <a:xfrm>
            <a:off x="5699160" y="2004840"/>
            <a:ext cx="2195640" cy="76860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32" descr=""/>
          <p:cNvPicPr/>
          <p:nvPr/>
        </p:nvPicPr>
        <p:blipFill>
          <a:blip r:embed="rId10"/>
          <a:stretch/>
        </p:blipFill>
        <p:spPr>
          <a:xfrm>
            <a:off x="6029280" y="2798640"/>
            <a:ext cx="2017800" cy="53496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33" descr=""/>
          <p:cNvPicPr/>
          <p:nvPr/>
        </p:nvPicPr>
        <p:blipFill>
          <a:blip r:embed="rId11"/>
          <a:stretch/>
        </p:blipFill>
        <p:spPr>
          <a:xfrm>
            <a:off x="1908000" y="4552920"/>
            <a:ext cx="2017800" cy="76824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34" descr=""/>
          <p:cNvPicPr/>
          <p:nvPr/>
        </p:nvPicPr>
        <p:blipFill>
          <a:blip r:embed="rId12"/>
          <a:stretch/>
        </p:blipFill>
        <p:spPr>
          <a:xfrm>
            <a:off x="4773600" y="5273640"/>
            <a:ext cx="2170080" cy="76680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35" descr=""/>
          <p:cNvPicPr/>
          <p:nvPr/>
        </p:nvPicPr>
        <p:blipFill>
          <a:blip r:embed="rId13"/>
          <a:stretch/>
        </p:blipFill>
        <p:spPr>
          <a:xfrm>
            <a:off x="2481120" y="5273640"/>
            <a:ext cx="2163960" cy="76680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36" descr=""/>
          <p:cNvPicPr/>
          <p:nvPr/>
        </p:nvPicPr>
        <p:blipFill>
          <a:blip r:embed="rId14"/>
          <a:stretch/>
        </p:blipFill>
        <p:spPr>
          <a:xfrm>
            <a:off x="5578560" y="4479840"/>
            <a:ext cx="2017800" cy="76860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37" descr=""/>
          <p:cNvPicPr/>
          <p:nvPr/>
        </p:nvPicPr>
        <p:blipFill>
          <a:blip r:embed="rId15"/>
          <a:stretch/>
        </p:blipFill>
        <p:spPr>
          <a:xfrm>
            <a:off x="3206880" y="2352600"/>
            <a:ext cx="2833560" cy="174312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23" descr=""/>
          <p:cNvPicPr/>
          <p:nvPr/>
        </p:nvPicPr>
        <p:blipFill>
          <a:blip r:embed="rId16"/>
          <a:stretch/>
        </p:blipFill>
        <p:spPr>
          <a:xfrm>
            <a:off x="6035760" y="3413160"/>
            <a:ext cx="2163600" cy="536400"/>
          </a:xfrm>
          <a:prstGeom prst="rect">
            <a:avLst/>
          </a:prstGeom>
          <a:ln w="0">
            <a:noFill/>
          </a:ln>
        </p:spPr>
      </p:pic>
      <p:sp>
        <p:nvSpPr>
          <p:cNvPr id="116" name="Oval 22"/>
          <p:cNvSpPr/>
          <p:nvPr/>
        </p:nvSpPr>
        <p:spPr>
          <a:xfrm>
            <a:off x="2050920" y="4437000"/>
            <a:ext cx="158436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9"/>
          <p:cNvSpPr/>
          <p:nvPr/>
        </p:nvSpPr>
        <p:spPr>
          <a:xfrm>
            <a:off x="4500720" y="1197000"/>
            <a:ext cx="237492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1"/>
          <p:cNvSpPr/>
          <p:nvPr/>
        </p:nvSpPr>
        <p:spPr>
          <a:xfrm>
            <a:off x="1692360" y="1413000"/>
            <a:ext cx="1727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hape 45"/>
          <p:cNvCxnSpPr/>
          <p:nvPr/>
        </p:nvCxnSpPr>
        <p:spPr>
          <a:xfrm flipH="1" flipV="1" rot="5400000">
            <a:off x="2250000" y="2149920"/>
            <a:ext cx="2844000" cy="1658160"/>
          </a:xfrm>
          <a:prstGeom prst="curvedConnector2">
            <a:avLst/>
          </a:prstGeom>
          <a:ln w="31680">
            <a:solidFill>
              <a:srgbClr val="ff0000"/>
            </a:solidFill>
            <a:prstDash val="sysDash"/>
            <a:miter/>
            <a:tailEnd len="lg" type="stealth" w="lg"/>
          </a:ln>
        </p:spPr>
      </p:cxnSp>
      <p:cxnSp>
        <p:nvCxnSpPr>
          <p:cNvPr id="120" name="Shape 46"/>
          <p:cNvCxnSpPr>
            <a:endCxn id="118" idx="5"/>
          </p:cNvCxnSpPr>
          <p:nvPr/>
        </p:nvCxnSpPr>
        <p:spPr>
          <a:xfrm flipH="1" flipV="1" rot="5400000">
            <a:off x="1865520" y="3065040"/>
            <a:ext cx="2277360" cy="324360"/>
          </a:xfrm>
          <a:prstGeom prst="curvedConnector5">
            <a:avLst>
              <a:gd name="adj1" fmla="val 79446"/>
              <a:gd name="adj2" fmla="val 50000"/>
              <a:gd name="adj3" fmla="val 79446"/>
            </a:avLst>
          </a:prstGeom>
          <a:ln w="31680">
            <a:solidFill>
              <a:srgbClr val="ff0000"/>
            </a:solidFill>
            <a:prstDash val="sysDash"/>
            <a:miter/>
            <a:tailEnd len="lg" type="stealth" w="lg"/>
          </a:ln>
        </p:spPr>
      </p:cxnSp>
      <p:cxnSp>
        <p:nvCxnSpPr>
          <p:cNvPr id="121" name="Shape 46"/>
          <p:cNvCxnSpPr>
            <a:endCxn id="118" idx="6"/>
          </p:cNvCxnSpPr>
          <p:nvPr/>
        </p:nvCxnSpPr>
        <p:spPr>
          <a:xfrm flipV="1" rot="10800000">
            <a:off x="3418920" y="1556280"/>
            <a:ext cx="1008720" cy="25164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31680">
            <a:solidFill>
              <a:srgbClr val="ff0000"/>
            </a:solidFill>
            <a:prstDash val="sysDash"/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611280" y="3438360"/>
            <a:ext cx="2394000" cy="1203480"/>
          </a:xfrm>
          <a:prstGeom prst="roundRect">
            <a:avLst>
              <a:gd name="adj" fmla="val 544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15960" y="10526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071800" y="3502080"/>
            <a:ext cx="922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615960" y="47498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615960" y="51674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Work+poor qual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0"/>
          <p:cNvSpPr/>
          <p:nvPr/>
        </p:nvSpPr>
        <p:spPr>
          <a:xfrm>
            <a:off x="611280" y="3438360"/>
            <a:ext cx="2394000" cy="1203480"/>
          </a:xfrm>
          <a:prstGeom prst="roundRect">
            <a:avLst>
              <a:gd name="adj" fmla="val 544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9"/>
          <p:cNvSpPr/>
          <p:nvPr/>
        </p:nvSpPr>
        <p:spPr>
          <a:xfrm>
            <a:off x="990720" y="2236680"/>
            <a:ext cx="468360" cy="1943280"/>
          </a:xfrm>
          <a:custGeom>
            <a:avLst/>
            <a:gdLst>
              <a:gd name="textAreaLeft" fmla="*/ 0 w 468360"/>
              <a:gd name="textAreaRight" fmla="*/ 468720 w 46836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737" h="3061">
                <a:moveTo>
                  <a:pt x="0" y="0"/>
                </a:moveTo>
                <a:lnTo>
                  <a:pt x="737" y="0"/>
                </a:lnTo>
                <a:lnTo>
                  <a:pt x="737" y="1868"/>
                </a:lnTo>
                <a:lnTo>
                  <a:pt x="510" y="1868"/>
                </a:lnTo>
                <a:lnTo>
                  <a:pt x="510" y="3061"/>
                </a:lnTo>
                <a:lnTo>
                  <a:pt x="0" y="3061"/>
                </a:lnTo>
                <a:lnTo>
                  <a:pt x="0" y="0"/>
                </a:lnTo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15960" y="10526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2071800" y="3502080"/>
            <a:ext cx="922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98520" y="1720800"/>
            <a:ext cx="92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15960" y="47498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615960" y="51674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qu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Work+poor hstry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0"/>
          <p:cNvSpPr/>
          <p:nvPr/>
        </p:nvSpPr>
        <p:spPr>
          <a:xfrm>
            <a:off x="611280" y="3438360"/>
            <a:ext cx="2394000" cy="1203480"/>
          </a:xfrm>
          <a:prstGeom prst="roundRect">
            <a:avLst>
              <a:gd name="adj" fmla="val 544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9"/>
          <p:cNvSpPr/>
          <p:nvPr/>
        </p:nvSpPr>
        <p:spPr>
          <a:xfrm>
            <a:off x="990720" y="2236680"/>
            <a:ext cx="468360" cy="1943280"/>
          </a:xfrm>
          <a:custGeom>
            <a:avLst/>
            <a:gdLst>
              <a:gd name="textAreaLeft" fmla="*/ 0 w 468360"/>
              <a:gd name="textAreaRight" fmla="*/ 468720 w 46836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737" h="3061">
                <a:moveTo>
                  <a:pt x="0" y="0"/>
                </a:moveTo>
                <a:lnTo>
                  <a:pt x="737" y="0"/>
                </a:lnTo>
                <a:lnTo>
                  <a:pt x="737" y="1868"/>
                </a:lnTo>
                <a:lnTo>
                  <a:pt x="510" y="1868"/>
                </a:lnTo>
                <a:lnTo>
                  <a:pt x="510" y="3061"/>
                </a:lnTo>
                <a:lnTo>
                  <a:pt x="0" y="3061"/>
                </a:lnTo>
                <a:lnTo>
                  <a:pt x="0" y="0"/>
                </a:lnTo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615960" y="10526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071800" y="3502080"/>
            <a:ext cx="922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98520" y="1720800"/>
            <a:ext cx="92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615960" y="47498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615960" y="51674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qu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hs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xclusionary emp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ny 1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3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2+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8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1258560" y="907920"/>
            <a:ext cx="1782000" cy="3824280"/>
            <a:chOff x="1258560" y="907920"/>
            <a:chExt cx="1782000" cy="3824280"/>
          </a:xfrm>
        </p:grpSpPr>
        <p:cxnSp>
          <p:nvCxnSpPr>
            <p:cNvPr id="280" name="AutoShape 18"/>
            <p:cNvCxnSpPr/>
            <p:nvPr/>
          </p:nvCxnSpPr>
          <p:spPr>
            <a:xfrm>
              <a:off x="1258560" y="90792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281" name="AutoShape 17"/>
            <p:cNvCxnSpPr/>
            <p:nvPr/>
          </p:nvCxnSpPr>
          <p:spPr>
            <a:xfrm flipH="1">
              <a:off x="1492920" y="3420720"/>
              <a:ext cx="154692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282" name="AutoShape 16"/>
            <p:cNvCxnSpPr/>
            <p:nvPr/>
          </p:nvCxnSpPr>
          <p:spPr>
            <a:xfrm>
              <a:off x="3039840" y="342108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283" name="AutoShape 15"/>
            <p:cNvCxnSpPr/>
            <p:nvPr/>
          </p:nvCxnSpPr>
          <p:spPr>
            <a:xfrm>
              <a:off x="1493280" y="2218680"/>
              <a:ext cx="1080" cy="120240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284" name="AutoShape 14"/>
            <p:cNvCxnSpPr/>
            <p:nvPr/>
          </p:nvCxnSpPr>
          <p:spPr>
            <a:xfrm flipH="1">
              <a:off x="1258560" y="2218680"/>
              <a:ext cx="23544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</p:grpSp>
      <p:sp>
        <p:nvSpPr>
          <p:cNvPr id="285" name="Rounded Rectangle 29"/>
          <p:cNvSpPr/>
          <p:nvPr/>
        </p:nvSpPr>
        <p:spPr>
          <a:xfrm>
            <a:off x="7866000" y="2852640"/>
            <a:ext cx="1224000" cy="1079640"/>
          </a:xfrm>
          <a:prstGeom prst="roundRect">
            <a:avLst>
              <a:gd name="adj" fmla="val 83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0"/>
          <p:cNvSpPr/>
          <p:nvPr/>
        </p:nvSpPr>
        <p:spPr>
          <a:xfrm>
            <a:off x="611280" y="3438360"/>
            <a:ext cx="2394000" cy="1203480"/>
          </a:xfrm>
          <a:prstGeom prst="roundRect">
            <a:avLst>
              <a:gd name="adj" fmla="val 544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9"/>
          <p:cNvSpPr/>
          <p:nvPr/>
        </p:nvSpPr>
        <p:spPr>
          <a:xfrm>
            <a:off x="990720" y="2236680"/>
            <a:ext cx="468360" cy="1943280"/>
          </a:xfrm>
          <a:custGeom>
            <a:avLst/>
            <a:gdLst>
              <a:gd name="textAreaLeft" fmla="*/ 0 w 468360"/>
              <a:gd name="textAreaRight" fmla="*/ 468720 w 46836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737" h="3061">
                <a:moveTo>
                  <a:pt x="0" y="0"/>
                </a:moveTo>
                <a:lnTo>
                  <a:pt x="737" y="0"/>
                </a:lnTo>
                <a:lnTo>
                  <a:pt x="737" y="1868"/>
                </a:lnTo>
                <a:lnTo>
                  <a:pt x="510" y="1868"/>
                </a:lnTo>
                <a:lnTo>
                  <a:pt x="510" y="3061"/>
                </a:lnTo>
                <a:lnTo>
                  <a:pt x="0" y="3061"/>
                </a:lnTo>
                <a:lnTo>
                  <a:pt x="0" y="0"/>
                </a:lnTo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615960" y="10526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2071800" y="3502080"/>
            <a:ext cx="922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298520" y="1720800"/>
            <a:ext cx="92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615960" y="47498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615960" y="51674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qu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hs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xclusionary emp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ny 1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3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2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+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8%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work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1258560" y="907920"/>
            <a:ext cx="1782000" cy="3824280"/>
            <a:chOff x="1258560" y="907920"/>
            <a:chExt cx="1782000" cy="3824280"/>
          </a:xfrm>
        </p:grpSpPr>
        <p:cxnSp>
          <p:nvCxnSpPr>
            <p:cNvPr id="308" name="AutoShape 18"/>
            <p:cNvCxnSpPr/>
            <p:nvPr/>
          </p:nvCxnSpPr>
          <p:spPr>
            <a:xfrm>
              <a:off x="1258560" y="90792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09" name="AutoShape 17"/>
            <p:cNvCxnSpPr/>
            <p:nvPr/>
          </p:nvCxnSpPr>
          <p:spPr>
            <a:xfrm flipH="1">
              <a:off x="1492920" y="3420720"/>
              <a:ext cx="154692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10" name="AutoShape 16"/>
            <p:cNvCxnSpPr/>
            <p:nvPr/>
          </p:nvCxnSpPr>
          <p:spPr>
            <a:xfrm>
              <a:off x="3039840" y="342108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11" name="AutoShape 15"/>
            <p:cNvCxnSpPr/>
            <p:nvPr/>
          </p:nvCxnSpPr>
          <p:spPr>
            <a:xfrm>
              <a:off x="1493280" y="2218680"/>
              <a:ext cx="1080" cy="120240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12" name="AutoShape 14"/>
            <p:cNvCxnSpPr/>
            <p:nvPr/>
          </p:nvCxnSpPr>
          <p:spPr>
            <a:xfrm flipH="1">
              <a:off x="1258560" y="2218680"/>
              <a:ext cx="23544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2"/>
          <p:cNvSpPr/>
          <p:nvPr/>
        </p:nvSpPr>
        <p:spPr>
          <a:xfrm>
            <a:off x="611280" y="1052640"/>
            <a:ext cx="3600360" cy="3600360"/>
          </a:xfrm>
          <a:prstGeom prst="roundRect">
            <a:avLst>
              <a:gd name="adj" fmla="val 2009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1"/>
          <p:cNvSpPr/>
          <p:nvPr/>
        </p:nvSpPr>
        <p:spPr>
          <a:xfrm>
            <a:off x="611280" y="1052640"/>
            <a:ext cx="612720" cy="360036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3600360"/>
              <a:gd name="textAreaBottom" fmla="*/ 3570480 h 3600360"/>
            </a:gdLst>
            <a:ahLst/>
            <a:rect l="textAreaLeft" t="textAreaTop" r="textAreaRight" b="textAreaBottom"/>
            <a:pathLst>
              <a:path w="21600" h="126860">
                <a:moveTo>
                  <a:pt x="3600" y="0"/>
                </a:moveTo>
                <a:arcTo wR="3600" hR="3600" stAng="16200000" swAng="-5400000"/>
                <a:lnTo>
                  <a:pt x="0" y="123260"/>
                </a:lnTo>
                <a:arcTo wR="3600" hR="3600" stAng="10800000" swAng="-5400000"/>
                <a:lnTo>
                  <a:pt x="18000" y="126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0"/>
          <p:cNvSpPr/>
          <p:nvPr/>
        </p:nvSpPr>
        <p:spPr>
          <a:xfrm>
            <a:off x="611280" y="3438360"/>
            <a:ext cx="2394000" cy="1203480"/>
          </a:xfrm>
          <a:prstGeom prst="roundRect">
            <a:avLst>
              <a:gd name="adj" fmla="val 544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"/>
          <p:cNvSpPr/>
          <p:nvPr/>
        </p:nvSpPr>
        <p:spPr>
          <a:xfrm>
            <a:off x="990720" y="2236680"/>
            <a:ext cx="468360" cy="1943280"/>
          </a:xfrm>
          <a:custGeom>
            <a:avLst/>
            <a:gdLst>
              <a:gd name="textAreaLeft" fmla="*/ 0 w 468360"/>
              <a:gd name="textAreaRight" fmla="*/ 468720 w 46836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737" h="3061">
                <a:moveTo>
                  <a:pt x="0" y="0"/>
                </a:moveTo>
                <a:lnTo>
                  <a:pt x="737" y="0"/>
                </a:lnTo>
                <a:lnTo>
                  <a:pt x="737" y="1868"/>
                </a:lnTo>
                <a:lnTo>
                  <a:pt x="510" y="1868"/>
                </a:lnTo>
                <a:lnTo>
                  <a:pt x="510" y="3061"/>
                </a:lnTo>
                <a:lnTo>
                  <a:pt x="0" y="3061"/>
                </a:lnTo>
                <a:lnTo>
                  <a:pt x="0" y="0"/>
                </a:lnTo>
                <a:close/>
              </a:path>
            </a:pathLst>
          </a:cu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2"/>
          <p:cNvSpPr/>
          <p:nvPr/>
        </p:nvSpPr>
        <p:spPr>
          <a:xfrm>
            <a:off x="611280" y="4710240"/>
            <a:ext cx="3600360" cy="392040"/>
          </a:xfrm>
          <a:prstGeom prst="roundRect">
            <a:avLst>
              <a:gd name="adj" fmla="val 18125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590400" y="5167440"/>
            <a:ext cx="3600720" cy="1093680"/>
          </a:xfrm>
          <a:prstGeom prst="roundRect">
            <a:avLst>
              <a:gd name="adj" fmla="val 6384"/>
            </a:avLst>
          </a:prstGeom>
          <a:solidFill>
            <a:srgbClr val="daeef3"/>
          </a:solidFill>
          <a:ln w="25560">
            <a:solidFill>
              <a:srgbClr val="974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267000" y="5167440"/>
            <a:ext cx="922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911320" y="471024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nem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2482920" y="1052640"/>
            <a:ext cx="17082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mploy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em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615960" y="10526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071800" y="3502080"/>
            <a:ext cx="922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298520" y="1720800"/>
            <a:ext cx="92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"/>
          <p:cNvSpPr/>
          <p:nvPr/>
        </p:nvSpPr>
        <p:spPr>
          <a:xfrm>
            <a:off x="590400" y="5167440"/>
            <a:ext cx="1692360" cy="1093680"/>
          </a:xfrm>
          <a:prstGeom prst="roundRect">
            <a:avLst>
              <a:gd name="adj" fmla="val 6500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>
            <a:off x="611280" y="4710240"/>
            <a:ext cx="2124000" cy="392040"/>
          </a:xfrm>
          <a:prstGeom prst="roundRect">
            <a:avLst>
              <a:gd name="adj" fmla="val 17963"/>
            </a:avLst>
          </a:prstGeom>
          <a:solidFill>
            <a:srgbClr val="fabf8f">
              <a:alpha val="30000"/>
            </a:srgbClr>
          </a:solidFill>
          <a:ln w="1260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615960" y="47498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615960" y="5167440"/>
            <a:ext cx="60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356000" y="4724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4356000" y="515772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5219640" y="1052640"/>
            <a:ext cx="374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 emp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%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7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qu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+poor hs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xclusionary emp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ny 1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36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2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2+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8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a6a6a6"/>
                </a:solidFill>
                <a:latin typeface="Calibri"/>
                <a:ea typeface="Calibri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ONE THIR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of those in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xclusionary employment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have made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no progress in employment over las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422440"/>
                <a:tab algn="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mmary: Employment &amp;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3"/>
          <p:cNvGrpSpPr/>
          <p:nvPr/>
        </p:nvGrpSpPr>
        <p:grpSpPr>
          <a:xfrm>
            <a:off x="1258560" y="907920"/>
            <a:ext cx="1782000" cy="3824280"/>
            <a:chOff x="1258560" y="907920"/>
            <a:chExt cx="1782000" cy="3824280"/>
          </a:xfrm>
        </p:grpSpPr>
        <p:cxnSp>
          <p:nvCxnSpPr>
            <p:cNvPr id="335" name="AutoShape 18"/>
            <p:cNvCxnSpPr/>
            <p:nvPr/>
          </p:nvCxnSpPr>
          <p:spPr>
            <a:xfrm>
              <a:off x="1258560" y="90792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36" name="AutoShape 17"/>
            <p:cNvCxnSpPr/>
            <p:nvPr/>
          </p:nvCxnSpPr>
          <p:spPr>
            <a:xfrm flipH="1">
              <a:off x="1492920" y="3420720"/>
              <a:ext cx="154692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37" name="AutoShape 16"/>
            <p:cNvCxnSpPr/>
            <p:nvPr/>
          </p:nvCxnSpPr>
          <p:spPr>
            <a:xfrm>
              <a:off x="3039840" y="3421080"/>
              <a:ext cx="1080" cy="13114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38" name="AutoShape 15"/>
            <p:cNvCxnSpPr/>
            <p:nvPr/>
          </p:nvCxnSpPr>
          <p:spPr>
            <a:xfrm>
              <a:off x="1493280" y="2218680"/>
              <a:ext cx="1080" cy="120240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  <p:cxnSp>
          <p:nvCxnSpPr>
            <p:cNvPr id="339" name="AutoShape 14"/>
            <p:cNvCxnSpPr/>
            <p:nvPr/>
          </p:nvCxnSpPr>
          <p:spPr>
            <a:xfrm flipH="1">
              <a:off x="1258560" y="2218680"/>
              <a:ext cx="23544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. Conclusions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itain’s broken labour mar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policy focus on “inclusionary employment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cess to work – employment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y – Living Wage+, hours, under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bility/security – predictability, continu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y – satisfaction, control, stress, phys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g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bour market &amp; policy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0920" y="15573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ng-term restructu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ore unequal returns, increasing ‘flexibility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ession reinforced this – rise of underemployment and 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um wage and tax credits BU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lfare reforms, sanctions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bsence of labour market regulation and curbs on un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ives rise of in-work poverty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UK figs from HBA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2% of poor in work in 2011/12  [40% in 1996/7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1% of working age poor in work in 2011/12  [53% in 1996/7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hart 9" descr=""/>
          <p:cNvPicPr/>
          <p:nvPr/>
        </p:nvPicPr>
        <p:blipFill>
          <a:blip r:embed="rId1"/>
          <a:stretch/>
        </p:blipFill>
        <p:spPr>
          <a:xfrm>
            <a:off x="317520" y="974880"/>
            <a:ext cx="8508960" cy="4694040"/>
          </a:xfrm>
          <a:prstGeom prst="rect">
            <a:avLst/>
          </a:prstGeom>
          <a:ln w="0">
            <a:noFill/>
          </a:ln>
        </p:spPr>
      </p:pic>
      <p:sp>
        <p:nvSpPr>
          <p:cNvPr id="125" name="Straight Connector 11"/>
          <p:cNvSpPr/>
          <p:nvPr/>
        </p:nvSpPr>
        <p:spPr>
          <a:xfrm>
            <a:off x="1049400" y="2873520"/>
            <a:ext cx="36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4"/>
          <p:cNvSpPr/>
          <p:nvPr/>
        </p:nvSpPr>
        <p:spPr>
          <a:xfrm>
            <a:off x="8286840" y="2516040"/>
            <a:ext cx="358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9"/>
          <p:cNvSpPr/>
          <p:nvPr/>
        </p:nvSpPr>
        <p:spPr>
          <a:xfrm>
            <a:off x="2467080" y="2792520"/>
            <a:ext cx="36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20"/>
          <p:cNvSpPr/>
          <p:nvPr/>
        </p:nvSpPr>
        <p:spPr>
          <a:xfrm>
            <a:off x="3951360" y="2806560"/>
            <a:ext cx="36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2"/>
          <p:cNvSpPr/>
          <p:nvPr/>
        </p:nvSpPr>
        <p:spPr>
          <a:xfrm>
            <a:off x="6862680" y="2598840"/>
            <a:ext cx="36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23"/>
          <p:cNvSpPr/>
          <p:nvPr/>
        </p:nvSpPr>
        <p:spPr>
          <a:xfrm>
            <a:off x="5384880" y="2678040"/>
            <a:ext cx="36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4"/>
          <p:cNvSpPr/>
          <p:nvPr/>
        </p:nvSpPr>
        <p:spPr>
          <a:xfrm>
            <a:off x="1332000" y="5805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52% of all peopl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in poverty in working hh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- 61% of working ag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in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721800" y="11592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 income poverty (AHC) by household employm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K - 1996/7 to 2011/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7614360" y="655020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BAI (DWP, 201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cess to employ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hart 3" descr=""/>
          <p:cNvPicPr/>
          <p:nvPr/>
        </p:nvPicPr>
        <p:blipFill>
          <a:blip r:embed="rId1"/>
          <a:stretch/>
        </p:blipFill>
        <p:spPr>
          <a:xfrm>
            <a:off x="176040" y="1487520"/>
            <a:ext cx="8718840" cy="51879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0" y="1268280"/>
            <a:ext cx="67327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79280" y="3716280"/>
            <a:ext cx="67327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cess to employ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Employment and pov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Content Placeholder 2" descr=""/>
          <p:cNvPicPr/>
          <p:nvPr/>
        </p:nvPicPr>
        <p:blipFill>
          <a:blip r:embed="rId1"/>
          <a:stretch/>
        </p:blipFill>
        <p:spPr>
          <a:xfrm>
            <a:off x="334800" y="1444680"/>
            <a:ext cx="8352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Employment and poverty - U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hart 5" descr=""/>
          <p:cNvPicPr/>
          <p:nvPr/>
        </p:nvPicPr>
        <p:blipFill>
          <a:blip r:embed="rId1"/>
          <a:stretch/>
        </p:blipFill>
        <p:spPr>
          <a:xfrm>
            <a:off x="0" y="3998880"/>
            <a:ext cx="9144000" cy="2859120"/>
          </a:xfrm>
          <a:prstGeom prst="rect">
            <a:avLst/>
          </a:prstGeom>
          <a:ln w="0">
            <a:noFill/>
          </a:ln>
        </p:spPr>
      </p:pic>
      <p:pic>
        <p:nvPicPr>
          <p:cNvPr id="144" name="Chart 4" descr=""/>
          <p:cNvPicPr/>
          <p:nvPr/>
        </p:nvPicPr>
        <p:blipFill>
          <a:blip r:embed="rId2"/>
          <a:stretch/>
        </p:blipFill>
        <p:spPr>
          <a:xfrm>
            <a:off x="0" y="1122480"/>
            <a:ext cx="9144000" cy="28828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4284720" y="1341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5940360" y="1341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3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2484360" y="1341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3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826920" y="134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411280" y="1268280"/>
            <a:ext cx="532944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7740720" y="1484280"/>
            <a:ext cx="1403280" cy="93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 In-work poverty – Scot vs RoU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6443640" y="1484280"/>
            <a:ext cx="230652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1187280" y="177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-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3059280" y="177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-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643280" y="1413000"/>
            <a:ext cx="230688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843280" y="1413000"/>
            <a:ext cx="230652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6T13:25:27Z</dcterms:created>
  <dc:creator>Nick Bailey</dc:creator>
  <dc:description/>
  <dc:language>en-US</dc:language>
  <cp:lastModifiedBy>User</cp:lastModifiedBy>
  <dcterms:modified xsi:type="dcterms:W3CDTF">2014-08-31T10:13:11Z</dcterms:modified>
  <cp:revision>101</cp:revision>
  <dc:subject/>
  <dc:title>PSE Conference slide</dc:title>
</cp:coreProperties>
</file>